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F22-FF17-4F48-A0FD-34288AEA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A96-D3D5-4035-B7DB-A05B76C0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BF5-7D2F-4801-B242-FF8B21D4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D8F-442B-4AE4-83F0-949876B1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9157-1B07-4724-A778-38F156F6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F58F-379A-4815-9605-DBA6E6D4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BAD2-7A6B-4C81-BA6F-8798BC70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7FE5-6C9B-4C00-BBAF-5B8F05AD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D2E0-7160-429A-AC70-85DAA89C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DFF2-4033-4552-B022-382818F8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AAEB-622D-4E3A-8D18-B33223AB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D3A-FCBD-4F07-9C4D-4412967F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F441-C819-4C79-ABBD-8C30A945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FBC2-1FBC-41ED-8439-E50EF346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8C36-C3D9-4A07-92A6-DA11399E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AE3D-CD9F-4BE8-8D4E-01027AA0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7265-D623-496C-BD26-45FC372C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9C7-C50D-471B-ABB2-7BBDD0E5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5F1-0A94-48E0-A24A-86915D60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0968-C879-4B88-B580-1A2615CE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477-94C5-4A63-B3A0-40E587C5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B90-C9C0-4F42-BAD4-F1174744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97E-60CB-4F3F-920E-2ED4BC3F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A3D-2276-484D-AF63-AECCCB98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BFDF-A07B-4377-8387-D67FABC79BC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6F30-0ACE-43E8-902B-FAAE6145808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youtube.com/watch?v=3nvyuif80kI&amp;feature=related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Before we begin…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 out a piece of paper.  Answer the following ques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was the Cold War all about?  What does “cold war” mea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o fought the Cold W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was the cause of the Korean W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mutually assured destruction (MAD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McCarthyis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the U.S. economy and education change during the postwar perio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pop culture and family life change during the 1950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Marshall Plan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uropean Recovery Program (EP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build, create stronger economic found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stern Europ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growth and prospe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3880080" cy="453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The Berlin Airlif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990720"/>
            <a:ext cx="403848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major international crises of the Cold W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viet Union blocked the Western Allies' railway and road access to the sectors of Berlin under their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the Soviet zone to supply Berlin with food and f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the Soviets practical control over the entire 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3160" y="1447920"/>
            <a:ext cx="4117680" cy="4322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83600" y="6324480"/>
            <a:ext cx="543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The Berlin Airlift: The Story of a Great Achievemen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Allianc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rth Atlantic Treaty Organization (NAT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 "to keep the Russians out, the Americans in, and the Germans down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NATO Secretary General, Lord Is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saw P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itary response to West Germany’s integration to NATO Pact (May 1955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Your Assignmen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6.2: The Korean W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, 2,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65640" y="152280"/>
            <a:ext cx="3463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The Cold War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5-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WWII Aftermath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viet Union occupied Eastern Eur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t Germ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09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WWII Aftermath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952880" cy="4210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5719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was also divi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WWII Aftermath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564624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so was Ber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4864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What were Truman’s views on power?  What were Stalin’s vie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How did they disagree on the issue of self-governance in Eastern Europ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Truman Doctrine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ree peoples who are resisting attempted subjugation by armed minorities or by outside pressures.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d to Greek and Turkish govern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284148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10120" y="228600"/>
            <a:ext cx="323388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ontainment</a:t>
            </a:r>
            <a:br>
              <a:rPr sz="4200"/>
            </a:b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343400" cy="3470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itary, economic, and diplomatic strategies to lessen the spread of Commu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hance America’s security and influence abro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ent a "domino effect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22:09:22Z</dcterms:created>
  <dc:creator>Owner</dc:creator>
  <dc:description/>
  <dc:language>en-US</dc:language>
  <cp:lastModifiedBy>Owner</cp:lastModifiedBy>
  <dcterms:modified xsi:type="dcterms:W3CDTF">2010-04-20T04:46:13Z</dcterms:modified>
  <cp:revision>4</cp:revision>
  <dc:subject/>
  <dc:title>The Cold War</dc:title>
</cp:coreProperties>
</file>